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2748-5C50-4B51-8CDA-1EAD2A092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FCB5-D8FC-49AC-8A1C-C5F8A395A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AF5C-51F4-4282-9EB2-6BFBC05F0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1A9B-B3FB-4F7E-8463-3E1EEBA46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B0B1-3FD3-4064-8ADB-00FF72ECD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6719-597A-4308-9A4B-0DA2E3B30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05348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9164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08984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0628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7220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672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06284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45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23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onsumer Credit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0696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7220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0574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20T18:25:35Z</dcterms:modified>
  <cp:revision>33</cp:revision>
  <dc:subject/>
  <dc:title>lesson three</dc:title>
</cp:coreProperties>
</file>