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B1BE-FA17-4F20-B35F-773B360B0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4204-16A2-4ABD-BBD3-65735916B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28B1-E394-48AF-87E6-C19377D44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60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,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’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22:38:05Z</dcterms:modified>
  <cp:revision>32</cp:revision>
  <dc:subject/>
  <dc:title>lesson three</dc:title>
</cp:coreProperties>
</file>