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1B1D-2B35-4FDA-BF6C-E929EF414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F5E0-71A4-4435-A613-B3AF8BBAC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0C65-1390-40C2-9F76-1BCB06B5E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i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1326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3808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2800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4T19:59:32Z</dcterms:modified>
  <cp:revision>29</cp:revision>
  <dc:subject/>
  <dc:title>lesson three</dc:title>
</cp:coreProperties>
</file>