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7CB6-9B99-468B-8DCC-21433AE62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A7FA-0CC9-4E8A-82E4-CC581EE6592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7E66-9C9B-4447-81DB-5F251C41BF7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315F-76A1-447C-8A37-12AE5FF8333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815C-1767-4C6A-8A1A-877830CCD14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2E5B-FEB5-432C-8816-F73C0118E0F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ight</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153200" y="6323400"/>
            <a:ext cx="154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1359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1380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1294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151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459160" y="966960"/>
            <a:ext cx="4225680" cy="49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01Z</dcterms:modified>
  <cp:revision>42</cp:revision>
  <dc:subject/>
  <dc:title>lesson three</dc:title>
</cp:coreProperties>
</file>